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863-801D-40A5-B1E7-16EC82B7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48C-65BC-4CD4-830A-E019688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4B7-52D7-494E-B4F9-089932A1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508-F5F0-44AF-AC47-0189122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222-099A-4297-9BD8-C97F80E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941-02CF-4CA1-B5CD-6DD2843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A20-C397-4C7F-87D9-47B7D33D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1EE-40ED-4148-B3AA-8B9505A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181-B991-4312-86E8-BFFA95C5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644-3DCF-4C1B-8889-68B53188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18A-D9C2-49F0-A41E-E4E03AC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C9A-80AB-4D13-BC2A-29650F46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26561-988F-4B00-807C-682862DC6E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95800" y="770040"/>
            <a:ext cx="3740040" cy="49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040" y="1768320"/>
            <a:ext cx="4216320" cy="4989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nças aprendem brincando com as letras do alfab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79640" y="1670040"/>
            <a:ext cx="40370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cada letra podemos inventar uma brinc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8400" y="1768320"/>
            <a:ext cx="4037040" cy="498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2196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avez de jogos o alfabeto fica mais dive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200" y="1800360"/>
            <a:ext cx="4240080" cy="498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o alfabeto podemos criar atividades para o dia a 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8400" y="1768320"/>
            <a:ext cx="40370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28:43Z</dcterms:created>
  <dc:creator/>
  <dc:description/>
  <dc:language>en-US</dc:language>
  <cp:lastModifiedBy/>
  <dcterms:modified xsi:type="dcterms:W3CDTF">2010-11-25T22:57:13Z</dcterms:modified>
  <cp:revision>2</cp:revision>
  <dc:subject/>
  <dc:title/>
</cp:coreProperties>
</file>